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B1B-406A-410F-8D7B-918499DC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EAD-1FED-4A95-A882-B5344836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AC2-A379-4261-8ABA-3D33F523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E48-0B93-4E32-8630-4471E6EF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EE8-2C22-4FEE-9886-36F569EA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4F9-4FAA-4539-9EF8-8E125B6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698-204E-40EC-897B-9F5C9EA8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182-0E03-4AE3-B5A1-91EB3AB8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11CD-5114-45FF-A789-F61BEF76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5F6-9C3C-480B-950D-BBDE95E1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09E-C2FF-4B63-8D91-61D92207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8F5-01BD-434D-BFE5-1716F1FD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3610-C603-44F8-A0C9-0AC79E7755A8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eather.com/glossary/w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My Weather Forecast for Stillwater, O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 Meghan Kaif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urrent Weather Conditions for February 23, 2009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Temperature: 48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-Wind chill: 42 degre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Humidity: 38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Wind: SE 15-21 mp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3"/>
                </a:solidFill>
                <a:latin typeface="Verdana"/>
              </a:rPr>
              <a:t>Precipitation: 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Humidity: the amount of water vapor in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the more water vapor, the stickier it feels outs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Wind chill: the calculation of temperature that takes into account the w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73"/>
                </a:solidFill>
                <a:latin typeface="Verdana"/>
              </a:rPr>
              <a:t>-more wind=a colder day in the wint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ttp://www.weather.com/glossary/h.htm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cc"/>
                </a:solidFill>
                <a:uFillTx/>
                <a:latin typeface="Verdana"/>
                <a:hlinkClick r:id="rId1"/>
              </a:rPr>
              <a:t>http://www.weather.com/glossary/w.htm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5 Day Forecas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927000"/>
          <a:ext cx="7543800" cy="577872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840"/>
                <a:gridCol w="150804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ues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d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urs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olated Thunder St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ri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t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ly Clo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Why is this information important to a weather forecast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3"/>
                </a:solidFill>
                <a:latin typeface="Verdana"/>
              </a:rPr>
              <a:t>How does the weather forecast affect the local weather and climate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8:30:45Z</dcterms:created>
  <dc:creator>Meghan Kaifes</dc:creator>
  <dc:description/>
  <dc:language>en-US</dc:language>
  <cp:lastModifiedBy>Oklahoma State University</cp:lastModifiedBy>
  <dcterms:modified xsi:type="dcterms:W3CDTF">2009-02-24T15:24:17Z</dcterms:modified>
  <cp:revision>7</cp:revision>
  <dc:subject/>
  <dc:title>My Weather Forecast for Stillwater, OK</dc:title>
</cp:coreProperties>
</file>